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4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0.png" ContentType="image/png"/>
  <Override PartName="/ppt/media/image10.jpeg" ContentType="image/jpeg"/>
  <Override PartName="/ppt/media/image33.jpeg" ContentType="image/jpeg"/>
  <Override PartName="/ppt/media/image45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41.png" ContentType="image/png"/>
  <Override PartName="/ppt/media/image22.jpeg" ContentType="image/jpeg"/>
  <Override PartName="/ppt/media/image39.png" ContentType="image/png"/>
  <Override PartName="/ppt/media/image46.png" ContentType="image/png"/>
  <Override PartName="/ppt/media/image51.png" ContentType="image/png"/>
  <Override PartName="/ppt/media/image31.png" ContentType="image/png"/>
  <Override PartName="/ppt/media/image43.png" ContentType="image/png"/>
  <Override PartName="/ppt/media/image52.jpeg" ContentType="image/jpeg"/>
  <Override PartName="/ppt/media/image8.png" ContentType="image/png"/>
  <Override PartName="/ppt/media/image14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27.jpeg" ContentType="image/jpeg"/>
  <Override PartName="/ppt/media/image50.jpeg" ContentType="image/jpeg"/>
  <Override PartName="/ppt/media/image48.png" ContentType="image/png"/>
  <Override PartName="/ppt/media/image9.jpeg" ContentType="image/jpeg"/>
  <Override PartName="/ppt/media/image28.png" ContentType="image/png"/>
  <Override PartName="/ppt/media/image3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149-30F1-4BC7-B978-D8729BB0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F60-A4C9-4F3D-9752-33D4C780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3BF-6EEF-4F9B-A987-7FC1FC10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0F4-75D5-4D4E-A866-3FB19B9A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D24-8AC8-4B3D-8551-448AD4D7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47F-2B76-4E63-99BA-20E1E558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1A1-2519-4E7B-98F1-8FE891C1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AE0-F882-4714-AF2F-5B28E79B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39E-5641-43C5-B40A-5B9597BD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7D6-FCEE-42B1-9338-3E1F8C65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633-8D3E-460E-94F3-446AFE2E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0A0-0405-424C-AFEC-0000DA9E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3FF7-FC98-43D8-9282-B829B882F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1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png"/><Relationship Id="rId3" Type="http://schemas.openxmlformats.org/officeDocument/2006/relationships/image" Target="../media/image21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png"/><Relationship Id="rId3" Type="http://schemas.openxmlformats.org/officeDocument/2006/relationships/image" Target="../media/image22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6" descr=""/>
          <p:cNvPicPr/>
          <p:nvPr/>
        </p:nvPicPr>
        <p:blipFill>
          <a:blip r:embed="rId2"/>
          <a:stretch/>
        </p:blipFill>
        <p:spPr>
          <a:xfrm>
            <a:off x="1801800" y="326880"/>
            <a:ext cx="6634080" cy="382428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3"/>
          <a:stretch/>
        </p:blipFill>
        <p:spPr>
          <a:xfrm>
            <a:off x="2413080" y="3905280"/>
            <a:ext cx="5410080" cy="228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标注 5"/>
          <p:cNvSpPr/>
          <p:nvPr/>
        </p:nvSpPr>
        <p:spPr>
          <a:xfrm>
            <a:off x="1619280" y="1270080"/>
            <a:ext cx="3457440" cy="1295280"/>
          </a:xfrm>
          <a:prstGeom prst="wedgeRectCallout">
            <a:avLst>
              <a:gd name="adj1" fmla="val -3819"/>
              <a:gd name="adj2" fmla="val 8724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What time does Tom …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矩形标注 6"/>
          <p:cNvSpPr/>
          <p:nvPr/>
        </p:nvSpPr>
        <p:spPr>
          <a:xfrm>
            <a:off x="6083280" y="3932280"/>
            <a:ext cx="1297080" cy="1152360"/>
          </a:xfrm>
          <a:prstGeom prst="wedgeRectCallout">
            <a:avLst>
              <a:gd name="adj1" fmla="val -62851"/>
              <a:gd name="adj2" fmla="val -1501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图片 16388" descr=""/>
          <p:cNvPicPr/>
          <p:nvPr/>
        </p:nvPicPr>
        <p:blipFill>
          <a:blip r:embed="rId2"/>
          <a:stretch/>
        </p:blipFill>
        <p:spPr>
          <a:xfrm>
            <a:off x="3419640" y="3100320"/>
            <a:ext cx="223200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17429"/>
          <p:cNvSpPr/>
          <p:nvPr/>
        </p:nvSpPr>
        <p:spPr>
          <a:xfrm>
            <a:off x="971640" y="260280"/>
            <a:ext cx="720720" cy="72072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79280" y="3068640"/>
            <a:ext cx="34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 to bed early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348000" y="3068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eat ice-cream 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44360" y="5948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y sports 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443640" y="306864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at quickly 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227640" y="5877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ke a walk 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059280" y="58770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eat vegetables 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835280" y="44280"/>
            <a:ext cx="633564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Talk about the activities you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think are health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http://pic11.nipic.com/20101216/2457331_121158608116_2.jpg"/>
          <p:cNvPicPr/>
          <p:nvPr/>
        </p:nvPicPr>
        <p:blipFill>
          <a:blip r:embed="rId2"/>
          <a:stretch/>
        </p:blipFill>
        <p:spPr>
          <a:xfrm>
            <a:off x="3419640" y="4149720"/>
            <a:ext cx="2447640" cy="1625760"/>
          </a:xfrm>
          <a:prstGeom prst="rect">
            <a:avLst/>
          </a:prstGeom>
          <a:ln w="0">
            <a:noFill/>
          </a:ln>
        </p:spPr>
      </p:pic>
      <p:sp>
        <p:nvSpPr>
          <p:cNvPr id="155" name="矩形 27"/>
          <p:cNvSpPr/>
          <p:nvPr/>
        </p:nvSpPr>
        <p:spPr>
          <a:xfrm>
            <a:off x="2778840" y="3068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28"/>
          <p:cNvSpPr/>
          <p:nvPr/>
        </p:nvSpPr>
        <p:spPr>
          <a:xfrm>
            <a:off x="2207160" y="5883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29"/>
          <p:cNvSpPr/>
          <p:nvPr/>
        </p:nvSpPr>
        <p:spPr>
          <a:xfrm>
            <a:off x="5585400" y="58514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30"/>
          <p:cNvSpPr/>
          <p:nvPr/>
        </p:nvSpPr>
        <p:spPr>
          <a:xfrm>
            <a:off x="8393760" y="5877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17428"/>
          <p:cNvSpPr/>
          <p:nvPr/>
        </p:nvSpPr>
        <p:spPr>
          <a:xfrm>
            <a:off x="1001160" y="260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图片 17430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201600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7432" descr=""/>
          <p:cNvPicPr/>
          <p:nvPr/>
        </p:nvPicPr>
        <p:blipFill>
          <a:blip r:embed="rId4"/>
          <a:stretch/>
        </p:blipFill>
        <p:spPr>
          <a:xfrm>
            <a:off x="3971880" y="1488960"/>
            <a:ext cx="1679760" cy="17240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7433" descr=""/>
          <p:cNvPicPr/>
          <p:nvPr/>
        </p:nvPicPr>
        <p:blipFill>
          <a:blip r:embed="rId5"/>
          <a:stretch/>
        </p:blipFill>
        <p:spPr>
          <a:xfrm>
            <a:off x="6659640" y="1557360"/>
            <a:ext cx="2016000" cy="15303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7434" descr=""/>
          <p:cNvPicPr/>
          <p:nvPr/>
        </p:nvPicPr>
        <p:blipFill>
          <a:blip r:embed="rId6"/>
          <a:stretch/>
        </p:blipFill>
        <p:spPr>
          <a:xfrm>
            <a:off x="776160" y="4005360"/>
            <a:ext cx="1635120" cy="19620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7435" descr=""/>
          <p:cNvPicPr/>
          <p:nvPr/>
        </p:nvPicPr>
        <p:blipFill>
          <a:blip r:embed="rId7"/>
          <a:stretch/>
        </p:blipFill>
        <p:spPr>
          <a:xfrm>
            <a:off x="6730920" y="4005360"/>
            <a:ext cx="1873440" cy="2016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8449" descr=""/>
          <p:cNvPicPr/>
          <p:nvPr/>
        </p:nvPicPr>
        <p:blipFill>
          <a:blip r:embed="rId2"/>
          <a:stretch/>
        </p:blipFill>
        <p:spPr>
          <a:xfrm>
            <a:off x="5653080" y="1971720"/>
            <a:ext cx="1655640" cy="2249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2052720" y="45194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rush teeth twice every 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771640" y="2343240"/>
            <a:ext cx="2232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at lots of fruit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490920" y="431640"/>
            <a:ext cx="4681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What other healthy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activities you know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4" descr="http://pic13.nipic.com/20110303/2457331_193740784408_2.jpg"/>
          <p:cNvPicPr/>
          <p:nvPr/>
        </p:nvPicPr>
        <p:blipFill>
          <a:blip r:embed="rId3"/>
          <a:stretch/>
        </p:blipFill>
        <p:spPr>
          <a:xfrm>
            <a:off x="395280" y="2133720"/>
            <a:ext cx="2376360" cy="1906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http://picm.photophoto.cn/005/018/002/0180020069.jpg"/>
          <p:cNvPicPr/>
          <p:nvPr/>
        </p:nvPicPr>
        <p:blipFill>
          <a:blip r:embed="rId4"/>
          <a:stretch/>
        </p:blipFill>
        <p:spPr>
          <a:xfrm>
            <a:off x="668160" y="4221000"/>
            <a:ext cx="1382760" cy="1882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8" descr="http://www.chinayb.net/upfiles/caiji/201010/20101003194348713.jpg"/>
          <p:cNvPicPr/>
          <p:nvPr/>
        </p:nvPicPr>
        <p:blipFill>
          <a:blip r:embed="rId5"/>
          <a:stretch/>
        </p:blipFill>
        <p:spPr>
          <a:xfrm>
            <a:off x="5796000" y="4537080"/>
            <a:ext cx="1930320" cy="1268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4572000" y="595620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eat a good breakfa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矩形 18446"/>
          <p:cNvSpPr txBox="1"/>
          <p:nvPr/>
        </p:nvSpPr>
        <p:spPr>
          <a:xfrm>
            <a:off x="468360" y="501480"/>
            <a:ext cx="2952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Thinking </a:t>
            </a:r>
            <a:endParaRPr b="1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7093080" y="25718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exercis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椭圆 19486"/>
          <p:cNvSpPr/>
          <p:nvPr/>
        </p:nvSpPr>
        <p:spPr>
          <a:xfrm>
            <a:off x="2556000" y="836640"/>
            <a:ext cx="720720" cy="6494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24000" y="2276640"/>
          <a:ext cx="8569080" cy="4224240"/>
        </p:xfrm>
        <a:graphic>
          <a:graphicData uri="http://schemas.openxmlformats.org/drawingml/2006/table">
            <a:tbl>
              <a:tblPr/>
              <a:tblGrid>
                <a:gridCol w="5070240"/>
                <a:gridCol w="3498840"/>
              </a:tblGrid>
              <a:tr h="1407960">
                <a:tc>
                  <a:txBody>
                    <a:bodyPr anchor="t">
                      <a:noAutofit/>
                    </a:bodyPr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Who is healthier,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ny or Mary?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08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When does Tony go to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d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0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When does Mary go to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d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77" name="Text Box 9"/>
          <p:cNvSpPr/>
          <p:nvPr/>
        </p:nvSpPr>
        <p:spPr>
          <a:xfrm>
            <a:off x="6516720" y="2637000"/>
            <a:ext cx="172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ar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492360" y="549360"/>
            <a:ext cx="5256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ad the passage, and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swer the questi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940360" y="4064040"/>
            <a:ext cx="2808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t ten thir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796000" y="5283360"/>
            <a:ext cx="3240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t nine thir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矩形 19485"/>
          <p:cNvSpPr/>
          <p:nvPr/>
        </p:nvSpPr>
        <p:spPr>
          <a:xfrm>
            <a:off x="2627280" y="8431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图片 19487" descr="reading9"/>
          <p:cNvPicPr/>
          <p:nvPr/>
        </p:nvPicPr>
        <p:blipFill>
          <a:blip r:embed="rId2"/>
          <a:stretch/>
        </p:blipFill>
        <p:spPr>
          <a:xfrm>
            <a:off x="250920" y="619200"/>
            <a:ext cx="2158920" cy="907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9"/>
          <p:cNvSpPr/>
          <p:nvPr/>
        </p:nvSpPr>
        <p:spPr>
          <a:xfrm>
            <a:off x="900000" y="4762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ad again and fill in the blank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89080" y="1268280"/>
          <a:ext cx="8459640" cy="5127480"/>
        </p:xfrm>
        <a:graphic>
          <a:graphicData uri="http://schemas.openxmlformats.org/drawingml/2006/table">
            <a:tbl>
              <a:tblPr/>
              <a:tblGrid>
                <a:gridCol w="2411280"/>
                <a:gridCol w="604836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Tim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Tony’s  Activiti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87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 eigh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ts a quick breakfas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 eight thirt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 no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77800"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schoo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___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87160"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the even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 ten thirt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_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2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shes teeth and goes to b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5" name="Text Box 9"/>
          <p:cNvSpPr/>
          <p:nvPr/>
        </p:nvSpPr>
        <p:spPr>
          <a:xfrm>
            <a:off x="2700360" y="1785960"/>
            <a:ext cx="16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ts u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700360" y="29383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es to scho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698920" y="35146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ats hamburg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2700360" y="40194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ys basketball for half an hou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698920" y="4653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es his home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629080" y="530064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tches TV or plays computer gam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44360" y="333360"/>
          <a:ext cx="8748720" cy="6207120"/>
        </p:xfrm>
        <a:graphic>
          <a:graphicData uri="http://schemas.openxmlformats.org/drawingml/2006/table">
            <a:tbl>
              <a:tblPr/>
              <a:tblGrid>
                <a:gridCol w="2627280"/>
                <a:gridCol w="61214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Time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Mary’s  Activitie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____________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ts up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 a shower and eats a good breakfas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____________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es to school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t twelve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79240"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lunch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066680"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the evening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 nine thirty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____________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es to bed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2" name="Text Box 9"/>
          <p:cNvSpPr/>
          <p:nvPr/>
        </p:nvSpPr>
        <p:spPr>
          <a:xfrm>
            <a:off x="395280" y="909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At six thir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179280" y="25621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At eight thir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771640" y="31417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at lots of fruit and vegetable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771640" y="37162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lays volleybal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771640" y="429408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ats ice-cr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2771640" y="487044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does her homework, swims or takes a wal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椭圆 22546"/>
          <p:cNvSpPr/>
          <p:nvPr/>
        </p:nvSpPr>
        <p:spPr>
          <a:xfrm>
            <a:off x="538200" y="1268280"/>
            <a:ext cx="720720" cy="72072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47640" y="3664080"/>
            <a:ext cx="6840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ony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            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698920" y="30765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Unhealthy hab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780000" y="3716280"/>
            <a:ext cx="26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gets up l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258920" y="1052640"/>
            <a:ext cx="7416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Write down the unhealthy habits of each person. Then think of healthy activities for them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矩形 12" descr=""/>
          <p:cNvPicPr/>
          <p:nvPr/>
        </p:nvPicPr>
        <p:blipFill>
          <a:blip r:embed="rId2"/>
          <a:srcRect l="0" t="12159" r="11923" b="15310"/>
          <a:stretch/>
        </p:blipFill>
        <p:spPr>
          <a:xfrm>
            <a:off x="2700360" y="44280"/>
            <a:ext cx="3672000" cy="1125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9"/>
          <p:cNvSpPr/>
          <p:nvPr/>
        </p:nvSpPr>
        <p:spPr>
          <a:xfrm>
            <a:off x="2843280" y="4443480"/>
            <a:ext cx="45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eats breakfast quick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771640" y="50925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eats hamburgers for lunc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3782880" y="574056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goes to bed l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矩形 22545"/>
          <p:cNvSpPr/>
          <p:nvPr/>
        </p:nvSpPr>
        <p:spPr>
          <a:xfrm>
            <a:off x="612360" y="1268280"/>
            <a:ext cx="6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9"/>
          <p:cNvSpPr/>
          <p:nvPr/>
        </p:nvSpPr>
        <p:spPr>
          <a:xfrm>
            <a:off x="1835280" y="1846440"/>
            <a:ext cx="5761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627280" y="98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Healthy activ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897280" y="2467080"/>
            <a:ext cx="34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gets up ear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2467080" y="3108240"/>
            <a:ext cx="51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eats a good breakfa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1587600" y="3705120"/>
            <a:ext cx="62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eats lots of fruit and vegetab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2627280" y="45910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goes to bed ear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755640" y="2205000"/>
            <a:ext cx="77770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30000"/>
              </a:lnSpc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uickly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dv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很快地”，修饰动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08200" indent="-808200">
              <a:lnSpc>
                <a:spcPct val="130000"/>
              </a:lnSpc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og run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quick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08200" indent="-808200">
              <a:lnSpc>
                <a:spcPct val="130000"/>
              </a:lnSpc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狗快速地跑了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08200" indent="-808200">
              <a:lnSpc>
                <a:spcPct val="130000"/>
              </a:lnSpc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n’t ea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uick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It’s not a good habit.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吃得太快，这不是个好习惯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250920" y="1440000"/>
            <a:ext cx="6769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so I usually eat very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quick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图片 23558" descr="language points"/>
          <p:cNvPicPr/>
          <p:nvPr/>
        </p:nvPicPr>
        <p:blipFill>
          <a:blip r:embed="rId2"/>
          <a:stretch/>
        </p:blipFill>
        <p:spPr>
          <a:xfrm>
            <a:off x="2144880" y="525600"/>
            <a:ext cx="4227480" cy="958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9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39640" y="1125360"/>
            <a:ext cx="8137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拓展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uick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快的；迅速的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Tom eats a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uic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reakfast, then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to schoo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汤姆快速吃完早饭，然后就去上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0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0" descr="http://wenwen.soso.com/p/20100512/20100512151944-1505153989.jpg"/>
          <p:cNvPicPr/>
          <p:nvPr/>
        </p:nvPicPr>
        <p:blipFill>
          <a:blip r:embed="rId2"/>
          <a:stretch/>
        </p:blipFill>
        <p:spPr>
          <a:xfrm>
            <a:off x="63360" y="1114560"/>
            <a:ext cx="1771920" cy="1809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3780000" y="27781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lf past n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44360" y="544500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quarter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pas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seve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203640" y="5445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a.m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in the mor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508720" y="30654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 quarter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o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wel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8000" y="2924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quar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95280" y="2924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half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940360" y="560232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.m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n the afterno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2" descr="http://wenwen.soso.com/p/20110423/20110423200021-222928057.jpg"/>
          <p:cNvPicPr/>
          <p:nvPr/>
        </p:nvPicPr>
        <p:blipFill>
          <a:blip r:embed="rId3"/>
          <a:stretch/>
        </p:blipFill>
        <p:spPr>
          <a:xfrm>
            <a:off x="1763640" y="1287360"/>
            <a:ext cx="1584360" cy="144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4"/>
          <a:stretch/>
        </p:blipFill>
        <p:spPr>
          <a:xfrm>
            <a:off x="971640" y="3860640"/>
            <a:ext cx="1655640" cy="155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5"/>
          <a:stretch/>
        </p:blipFill>
        <p:spPr>
          <a:xfrm>
            <a:off x="4213080" y="1241280"/>
            <a:ext cx="1727280" cy="15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http://www.yooyoo360.com/photo/2009-1-5/20090116102935119.jpg"/>
          <p:cNvPicPr/>
          <p:nvPr/>
        </p:nvPicPr>
        <p:blipFill>
          <a:blip r:embed="rId6"/>
          <a:stretch/>
        </p:blipFill>
        <p:spPr>
          <a:xfrm>
            <a:off x="7020000" y="1197000"/>
            <a:ext cx="1490760" cy="160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http://pic14.nipic.com/20110609/4572067_011829047000_2.jpg"/>
          <p:cNvPicPr/>
          <p:nvPr/>
        </p:nvPicPr>
        <p:blipFill>
          <a:blip r:embed="rId7"/>
          <a:stretch/>
        </p:blipFill>
        <p:spPr>
          <a:xfrm>
            <a:off x="6300720" y="3932280"/>
            <a:ext cx="253548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E:\课件任务\七年级下课件\图片\清晨.jpg"/>
          <p:cNvPicPr/>
          <p:nvPr/>
        </p:nvPicPr>
        <p:blipFill>
          <a:blip r:embed="rId8"/>
          <a:stretch/>
        </p:blipFill>
        <p:spPr>
          <a:xfrm>
            <a:off x="3995640" y="3789360"/>
            <a:ext cx="1397160" cy="1893960"/>
          </a:xfrm>
          <a:prstGeom prst="rect">
            <a:avLst/>
          </a:prstGeom>
          <a:ln w="0">
            <a:noFill/>
          </a:ln>
        </p:spPr>
      </p:pic>
      <p:sp>
        <p:nvSpPr>
          <p:cNvPr id="57" name="矩形 1"/>
          <p:cNvSpPr txBox="1"/>
          <p:nvPr/>
        </p:nvSpPr>
        <p:spPr>
          <a:xfrm>
            <a:off x="1835280" y="285840"/>
            <a:ext cx="5329080" cy="83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What time is it?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cc00cc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825480" y="3645000"/>
            <a:ext cx="7562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You ca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eith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lay ches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y the guita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08200" indent="-808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可以下棋或弹吉它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2200" y="838080"/>
            <a:ext cx="86425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e evening, I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either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tch TV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y computer gam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ither… or…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或者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或者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” 连接两个并列名词、代词或句子成份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66560" y="1341360"/>
            <a:ext cx="8209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ither…or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连接两个名词作主语时，谓语动词的时态和数应与最近的一个相匹配（就近一致） 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Eith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or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ight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是你对就是他对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06200" y="304920"/>
            <a:ext cx="87868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she eat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lots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uit and vegetables for lunc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ts of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any, much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用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612720" y="2276640"/>
            <a:ext cx="8062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都有“许多；大量”之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但用法不同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ts of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后面可以跟可数名词也可以跟不可数名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He doesn’t hav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ts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=many)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ok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ts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=much) work to do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22200" y="1052640"/>
            <a:ext cx="8713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30000"/>
              </a:lnSpc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an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与可数名词复数形式连用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There ar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an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pples in the basket.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篮子里有许多苹果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much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表数量时，只能修饰不可数名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We don’t hav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uc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ilk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没有很多牛奶了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5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8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250920" y="1008000"/>
            <a:ext cx="842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he know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no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ood f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er, but it 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tas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good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684360" y="2492280"/>
            <a:ext cx="799128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) be good for 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示“对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益；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对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有好处”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 bad for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表示“对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有害；对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有坏处”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501480" y="549360"/>
            <a:ext cx="83185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good f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ur health to go to bed ear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get up ear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早睡早起对我们的健康有好处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n’t read in the dark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bad f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y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y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要在暗处看书，这对你的眼睛有害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71600" y="1698480"/>
            <a:ext cx="824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Apple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st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goo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苹果尝起来味道很好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es the ice-cream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st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ice?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冰淇淋的味道尝起来很好吗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471600" y="403200"/>
            <a:ext cx="8207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2) taste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意为“品尝   </a:t>
            </a:r>
            <a:r>
              <a:rPr b="1" lang="en-US" sz="3600" spc="-1" strike="noStrike">
                <a:solidFill>
                  <a:srgbClr val="ff33cc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的味道”。是连系动词，后面常跟形容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506520" y="4363920"/>
            <a:ext cx="8242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拓展：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ste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味道”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The ice-cream has a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st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lemon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冰淇淋有点柠檬的味道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1338120" y="1416240"/>
            <a:ext cx="726624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Trans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行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作业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打扫房间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吃得快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去睡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许多、大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2914560" y="1989000"/>
            <a:ext cx="295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ake a walk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355920" y="2678040"/>
            <a:ext cx="345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do home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716280" y="3284640"/>
            <a:ext cx="3672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lean the ro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570120" y="3932280"/>
            <a:ext cx="316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at quick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580000" y="5167440"/>
            <a:ext cx="2808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ither…o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932360" y="5846760"/>
            <a:ext cx="172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lots of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3714840" y="4579920"/>
            <a:ext cx="208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go to b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矩形 28683"/>
          <p:cNvSpPr txBox="1"/>
          <p:nvPr/>
        </p:nvSpPr>
        <p:spPr>
          <a:xfrm>
            <a:off x="2916360" y="549360"/>
            <a:ext cx="324000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Exercises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8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0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3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6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31640" y="1154160"/>
            <a:ext cx="6732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1400" indent="-401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A: When does Jim ___ __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401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He usually ____ up at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401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____ ____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401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A: When do your par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401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__ _____?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401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They usually _____the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401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om at __ ______  ____           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401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ght in the _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466560" y="620640"/>
            <a:ext cx="6553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Complete the convers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4498920" y="12762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get  u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708360" y="1924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ge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547640" y="257184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half   past   s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619280" y="39402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clean the  room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211640" y="45165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clea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259080" y="523728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a quarter  pa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矩形 14" descr=""/>
          <p:cNvPicPr/>
          <p:nvPr/>
        </p:nvPicPr>
        <p:blipFill>
          <a:blip r:embed="rId2"/>
          <a:stretch/>
        </p:blipFill>
        <p:spPr>
          <a:xfrm>
            <a:off x="6451560" y="1012680"/>
            <a:ext cx="2747880" cy="887400"/>
          </a:xfrm>
          <a:prstGeom prst="rect">
            <a:avLst/>
          </a:prstGeom>
          <a:ln w="0">
            <a:noFill/>
          </a:ln>
        </p:spPr>
      </p:pic>
      <p:pic>
        <p:nvPicPr>
          <p:cNvPr id="248" name="矩形 16" descr=""/>
          <p:cNvPicPr/>
          <p:nvPr/>
        </p:nvPicPr>
        <p:blipFill>
          <a:blip r:embed="rId3"/>
          <a:stretch/>
        </p:blipFill>
        <p:spPr>
          <a:xfrm>
            <a:off x="6375240" y="3689280"/>
            <a:ext cx="2749680" cy="88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7"/>
          <p:cNvSpPr/>
          <p:nvPr/>
        </p:nvSpPr>
        <p:spPr>
          <a:xfrm>
            <a:off x="3852720" y="5811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mor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图片 29710" descr=""/>
          <p:cNvPicPr/>
          <p:nvPr/>
        </p:nvPicPr>
        <p:blipFill>
          <a:blip r:embed="rId4"/>
          <a:stretch/>
        </p:blipFill>
        <p:spPr>
          <a:xfrm>
            <a:off x="7237440" y="1771560"/>
            <a:ext cx="1225440" cy="14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29711" descr="clean the room"/>
          <p:cNvPicPr/>
          <p:nvPr/>
        </p:nvPicPr>
        <p:blipFill>
          <a:blip r:embed="rId5"/>
          <a:stretch/>
        </p:blipFill>
        <p:spPr>
          <a:xfrm>
            <a:off x="6516720" y="4719600"/>
            <a:ext cx="2195640" cy="1876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88720" y="333360"/>
            <a:ext cx="65149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80640" indent="-9806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A: When does Jim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80640" indent="-9806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80640" indent="-9806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He usually ____ his _________ at __ ______ __ eight in the _______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80640" indent="-9806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A: When does Eric ____ _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80640" indent="-9806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?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80640" indent="-9806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He usually _____ a walk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80640" indent="-9806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 a  ______ __ __ in the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80640" indent="-9806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187280" y="981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do home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3492360" y="16365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do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995640" y="22114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a  quarter 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4714920" y="343548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ake 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635280" y="4653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ak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340000" y="5229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quarter to s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矩形 14" descr=""/>
          <p:cNvPicPr/>
          <p:nvPr/>
        </p:nvPicPr>
        <p:blipFill>
          <a:blip r:embed="rId2"/>
          <a:stretch/>
        </p:blipFill>
        <p:spPr>
          <a:xfrm>
            <a:off x="6889680" y="565200"/>
            <a:ext cx="2032200" cy="700200"/>
          </a:xfrm>
          <a:prstGeom prst="rect">
            <a:avLst/>
          </a:prstGeom>
          <a:ln w="0">
            <a:noFill/>
          </a:ln>
        </p:spPr>
      </p:pic>
      <p:pic>
        <p:nvPicPr>
          <p:cNvPr id="260" name="矩形 16" descr=""/>
          <p:cNvPicPr/>
          <p:nvPr/>
        </p:nvPicPr>
        <p:blipFill>
          <a:blip r:embed="rId3"/>
          <a:stretch/>
        </p:blipFill>
        <p:spPr>
          <a:xfrm>
            <a:off x="6807240" y="3435480"/>
            <a:ext cx="192888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7"/>
          <p:cNvSpPr/>
          <p:nvPr/>
        </p:nvSpPr>
        <p:spPr>
          <a:xfrm>
            <a:off x="1476360" y="5811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eve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564000" y="27874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eve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260360" y="22114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476360" y="40114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walk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图片 30737" descr=""/>
          <p:cNvPicPr/>
          <p:nvPr/>
        </p:nvPicPr>
        <p:blipFill>
          <a:blip r:embed="rId4"/>
          <a:stretch/>
        </p:blipFill>
        <p:spPr>
          <a:xfrm>
            <a:off x="6659640" y="1598760"/>
            <a:ext cx="2282760" cy="154296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30738" descr=""/>
          <p:cNvPicPr/>
          <p:nvPr/>
        </p:nvPicPr>
        <p:blipFill>
          <a:blip r:embed="rId5"/>
          <a:stretch/>
        </p:blipFill>
        <p:spPr>
          <a:xfrm>
            <a:off x="6908760" y="4508640"/>
            <a:ext cx="1695600" cy="191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mg03.tooopen.com/uploadfile/downs/images/20110808/sy_20110808163822838032.jpg"/>
          <p:cNvPicPr/>
          <p:nvPr/>
        </p:nvPicPr>
        <p:blipFill>
          <a:blip r:embed="rId2"/>
          <a:stretch/>
        </p:blipFill>
        <p:spPr>
          <a:xfrm>
            <a:off x="611280" y="1386000"/>
            <a:ext cx="2160360" cy="182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img.nipic.com/2007-09-18/200791818251572_1.jpg"/>
          <p:cNvPicPr/>
          <p:nvPr/>
        </p:nvPicPr>
        <p:blipFill>
          <a:blip r:embed="rId3"/>
          <a:stretch/>
        </p:blipFill>
        <p:spPr>
          <a:xfrm>
            <a:off x="3635280" y="1368360"/>
            <a:ext cx="2232000" cy="1844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www.gomediazine.com/wp-content/images/2008/10/designers_block_walking.jpg"/>
          <p:cNvPicPr/>
          <p:nvPr/>
        </p:nvPicPr>
        <p:blipFill>
          <a:blip r:embed="rId4"/>
          <a:stretch/>
        </p:blipFill>
        <p:spPr>
          <a:xfrm>
            <a:off x="2987640" y="4149720"/>
            <a:ext cx="2695680" cy="17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www.pep.com.cn/pdysh/jszx/tbjxzy/dmt/3s/3s1/3s1_1/201008/W020100825376646052087.jpg"/>
          <p:cNvPicPr/>
          <p:nvPr/>
        </p:nvPicPr>
        <p:blipFill>
          <a:blip r:embed="rId5"/>
          <a:stretch/>
        </p:blipFill>
        <p:spPr>
          <a:xfrm>
            <a:off x="6281640" y="4005360"/>
            <a:ext cx="2251080" cy="18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ww.taopic.com/uploads/allimg/110320/6630-110320062Q839.jpg"/>
          <p:cNvPicPr/>
          <p:nvPr/>
        </p:nvPicPr>
        <p:blipFill>
          <a:blip r:embed="rId6"/>
          <a:stretch/>
        </p:blipFill>
        <p:spPr>
          <a:xfrm>
            <a:off x="709560" y="4005360"/>
            <a:ext cx="1341360" cy="20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http://www.laohutong.com/img/fd5b39/6cf56ef6b58.jpg"/>
          <p:cNvPicPr/>
          <p:nvPr/>
        </p:nvPicPr>
        <p:blipFill>
          <a:blip r:embed="rId7"/>
          <a:stretch/>
        </p:blipFill>
        <p:spPr>
          <a:xfrm>
            <a:off x="6481800" y="1341360"/>
            <a:ext cx="1762200" cy="1943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6948360" y="32814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826920" y="60213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wal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851280" y="3284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go to b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24000" y="32814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o homework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940360" y="60181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ean the ro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203640" y="602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take a wal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矩形 6157"/>
          <p:cNvSpPr txBox="1"/>
          <p:nvPr/>
        </p:nvSpPr>
        <p:spPr>
          <a:xfrm>
            <a:off x="1619280" y="189000"/>
            <a:ext cx="619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8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What time do you...?</a:t>
            </a:r>
            <a:endParaRPr b="1" lang="en-US" sz="36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9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9640" y="406440"/>
            <a:ext cx="8352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Complete the sentenc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没有时间吃早餐，因此我通常吃得很快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have _____ ____ for breakfast, so I usually ___ ____  ______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在晚上或看电视或玩电脑游戏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_____ watches TV __ plays computer games __ the _______.  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529080" y="27162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uch  ti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348000" y="34354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at very quick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692360" y="4797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ither                      o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4356000" y="5589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       eve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31640" y="691920"/>
            <a:ext cx="82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午餐，她吃很多的水果和蔬菜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_____, she ____ ____ ___ fruit and vegetabl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冰淇淋尝起来很好，但对她的健康不好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e-cream ____ _____, but it’s not _____ ___ her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835280" y="1557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unch         eats   lots   of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059280" y="43657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stes goo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1042920" y="50925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ood  fo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6720" y="1165320"/>
            <a:ext cx="77756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20200" indent="-520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晚上，我通常游泳或散步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200" indent="-520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e _______, I usually _____ o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200" indent="-520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__ ____.  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200" indent="-520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有时候会打半个小时的篮球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200" indent="-520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_________ plays basketball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200" indent="-520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 ____ an hour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592360" y="1957320"/>
            <a:ext cx="201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e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6337440" y="1957320"/>
            <a:ext cx="1295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wi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1405080" y="2678040"/>
            <a:ext cx="280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  a  wal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979640" y="4076640"/>
            <a:ext cx="2303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332000" y="4797360"/>
            <a:ext cx="1871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half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4"/>
          <p:cNvSpPr/>
          <p:nvPr/>
        </p:nvSpPr>
        <p:spPr>
          <a:xfrm>
            <a:off x="1114560" y="3141720"/>
            <a:ext cx="71294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Write down the activities you think are healthy and unhealth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图片 27653" descr="homework4"/>
          <p:cNvPicPr/>
          <p:nvPr/>
        </p:nvPicPr>
        <p:blipFill>
          <a:blip r:embed="rId2"/>
          <a:stretch/>
        </p:blipFill>
        <p:spPr>
          <a:xfrm>
            <a:off x="2124000" y="1341360"/>
            <a:ext cx="4969080" cy="144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0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椭圆 7186"/>
          <p:cNvSpPr/>
          <p:nvPr/>
        </p:nvSpPr>
        <p:spPr>
          <a:xfrm>
            <a:off x="179280" y="476280"/>
            <a:ext cx="720720" cy="72072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12920" y="3068640"/>
            <a:ext cx="329544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a quarter to ten in the evening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900000" y="189000"/>
            <a:ext cx="79930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When do students usually do these things? Match the activities with the time of day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图片 7181" descr="N6B2]4[P`K50N`8C5)_6@LR"/>
          <p:cNvPicPr/>
          <p:nvPr/>
        </p:nvPicPr>
        <p:blipFill>
          <a:blip r:embed="rId2"/>
          <a:stretch/>
        </p:blipFill>
        <p:spPr>
          <a:xfrm>
            <a:off x="468360" y="4653000"/>
            <a:ext cx="1368360" cy="9745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7182" descr="X~PIIZCPH@G60W6}(I2NU0B"/>
          <p:cNvPicPr/>
          <p:nvPr/>
        </p:nvPicPr>
        <p:blipFill>
          <a:blip r:embed="rId3"/>
          <a:stretch/>
        </p:blipFill>
        <p:spPr>
          <a:xfrm>
            <a:off x="2843280" y="4653000"/>
            <a:ext cx="1476360" cy="9446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7183" descr="S%SGY16GC44036%{UNB}V3M"/>
          <p:cNvPicPr/>
          <p:nvPr/>
        </p:nvPicPr>
        <p:blipFill>
          <a:blip r:embed="rId4"/>
          <a:stretch/>
        </p:blipFill>
        <p:spPr>
          <a:xfrm>
            <a:off x="5364000" y="4653000"/>
            <a:ext cx="1441440" cy="9604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7184" descr="%W0)}I_NRY[(K($~L~HK}B8"/>
          <p:cNvPicPr/>
          <p:nvPr/>
        </p:nvPicPr>
        <p:blipFill>
          <a:blip r:embed="rId5"/>
          <a:stretch/>
        </p:blipFill>
        <p:spPr>
          <a:xfrm>
            <a:off x="7308720" y="4653000"/>
            <a:ext cx="1511280" cy="992160"/>
          </a:xfrm>
          <a:prstGeom prst="rect">
            <a:avLst/>
          </a:prstGeom>
          <a:ln w="0">
            <a:noFill/>
          </a:ln>
        </p:spPr>
      </p:pic>
      <p:sp>
        <p:nvSpPr>
          <p:cNvPr id="78" name="矩形 7185"/>
          <p:cNvSpPr/>
          <p:nvPr/>
        </p:nvSpPr>
        <p:spPr>
          <a:xfrm>
            <a:off x="187200" y="484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文本框 7187"/>
          <p:cNvSpPr/>
          <p:nvPr/>
        </p:nvSpPr>
        <p:spPr>
          <a:xfrm>
            <a:off x="324000" y="5602320"/>
            <a:ext cx="20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 do home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7188"/>
          <p:cNvSpPr/>
          <p:nvPr/>
        </p:nvSpPr>
        <p:spPr>
          <a:xfrm>
            <a:off x="2916360" y="5589720"/>
            <a:ext cx="136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2. eat dinn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7189"/>
          <p:cNvSpPr/>
          <p:nvPr/>
        </p:nvSpPr>
        <p:spPr>
          <a:xfrm>
            <a:off x="5148360" y="55897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 eat breakfa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7190"/>
          <p:cNvSpPr/>
          <p:nvPr/>
        </p:nvSpPr>
        <p:spPr>
          <a:xfrm>
            <a:off x="7453440" y="558972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4. go to b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7191"/>
          <p:cNvSpPr/>
          <p:nvPr/>
        </p:nvSpPr>
        <p:spPr>
          <a:xfrm>
            <a:off x="431640" y="2060640"/>
            <a:ext cx="31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half past six in the mor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7192"/>
          <p:cNvSpPr/>
          <p:nvPr/>
        </p:nvSpPr>
        <p:spPr>
          <a:xfrm>
            <a:off x="4500720" y="1916280"/>
            <a:ext cx="4149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a quarter past three in the afternoo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7193"/>
          <p:cNvSpPr/>
          <p:nvPr/>
        </p:nvSpPr>
        <p:spPr>
          <a:xfrm>
            <a:off x="4502160" y="3141720"/>
            <a:ext cx="37418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a quarter to seven in the evening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7194"/>
          <p:cNvSpPr/>
          <p:nvPr/>
        </p:nvSpPr>
        <p:spPr>
          <a:xfrm>
            <a:off x="3468600" y="234936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7195"/>
          <p:cNvSpPr/>
          <p:nvPr/>
        </p:nvSpPr>
        <p:spPr>
          <a:xfrm>
            <a:off x="8389800" y="2421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2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矩形 7196"/>
          <p:cNvSpPr/>
          <p:nvPr/>
        </p:nvSpPr>
        <p:spPr>
          <a:xfrm>
            <a:off x="3493800" y="357336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4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7197"/>
          <p:cNvSpPr/>
          <p:nvPr/>
        </p:nvSpPr>
        <p:spPr>
          <a:xfrm>
            <a:off x="8367480" y="357336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椭圆 8212"/>
          <p:cNvSpPr/>
          <p:nvPr/>
        </p:nvSpPr>
        <p:spPr>
          <a:xfrm>
            <a:off x="324000" y="260280"/>
            <a:ext cx="792000" cy="7923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图片 8210" descr=""/>
          <p:cNvPicPr/>
          <p:nvPr/>
        </p:nvPicPr>
        <p:blipFill>
          <a:blip r:embed="rId2"/>
          <a:stretch/>
        </p:blipFill>
        <p:spPr>
          <a:xfrm>
            <a:off x="3708360" y="2700360"/>
            <a:ext cx="2158920" cy="1989000"/>
          </a:xfrm>
          <a:prstGeom prst="rect">
            <a:avLst/>
          </a:prstGeom>
          <a:ln w="0">
            <a:noFill/>
          </a:ln>
        </p:spPr>
      </p:pic>
      <p:sp>
        <p:nvSpPr>
          <p:cNvPr id="92" name="矩形标注 12"/>
          <p:cNvSpPr/>
          <p:nvPr/>
        </p:nvSpPr>
        <p:spPr>
          <a:xfrm>
            <a:off x="431640" y="1341360"/>
            <a:ext cx="3492720" cy="1079640"/>
          </a:xfrm>
          <a:prstGeom prst="wedgeRectCallout">
            <a:avLst>
              <a:gd name="adj1" fmla="val 37134"/>
              <a:gd name="adj2" fmla="val 7956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When do students usually eat dinner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标注 16"/>
          <p:cNvSpPr/>
          <p:nvPr/>
        </p:nvSpPr>
        <p:spPr>
          <a:xfrm>
            <a:off x="539640" y="4941720"/>
            <a:ext cx="3672000" cy="1557360"/>
          </a:xfrm>
          <a:prstGeom prst="wedgeRectCallout">
            <a:avLst>
              <a:gd name="adj1" fmla="val 44162"/>
              <a:gd name="adj2" fmla="val -7986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They usually go to bed at a quarter to ten in the eveni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矩形标注 21"/>
          <p:cNvSpPr/>
          <p:nvPr/>
        </p:nvSpPr>
        <p:spPr>
          <a:xfrm>
            <a:off x="5148360" y="5300640"/>
            <a:ext cx="3708360" cy="1081080"/>
          </a:xfrm>
          <a:prstGeom prst="wedgeRectCallout">
            <a:avLst>
              <a:gd name="adj1" fmla="val -40199"/>
              <a:gd name="adj2" fmla="val -9757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When do students usually go to bed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标注 27"/>
          <p:cNvSpPr/>
          <p:nvPr/>
        </p:nvSpPr>
        <p:spPr>
          <a:xfrm>
            <a:off x="4356000" y="1052640"/>
            <a:ext cx="4500720" cy="1655640"/>
          </a:xfrm>
          <a:prstGeom prst="wedgeRectCallout">
            <a:avLst>
              <a:gd name="adj1" fmla="val -28907"/>
              <a:gd name="adj2" fmla="val 6543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They usually eat dinner at a quarter to seven in the eveni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116000" y="2667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sk and answer with your partner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图片 8208" descr="X~PIIZCPH@G60W6}(I2NU0B"/>
          <p:cNvPicPr/>
          <p:nvPr/>
        </p:nvPicPr>
        <p:blipFill>
          <a:blip r:embed="rId3"/>
          <a:stretch/>
        </p:blipFill>
        <p:spPr>
          <a:xfrm>
            <a:off x="1116000" y="3095640"/>
            <a:ext cx="1871640" cy="1197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209" descr="%W0)}I_NRY[(K($~L~HK}B8"/>
          <p:cNvPicPr/>
          <p:nvPr/>
        </p:nvPicPr>
        <p:blipFill>
          <a:blip r:embed="rId4"/>
          <a:stretch/>
        </p:blipFill>
        <p:spPr>
          <a:xfrm>
            <a:off x="6589800" y="3573360"/>
            <a:ext cx="1511280" cy="992160"/>
          </a:xfrm>
          <a:prstGeom prst="rect">
            <a:avLst/>
          </a:prstGeom>
          <a:ln w="0">
            <a:noFill/>
          </a:ln>
        </p:spPr>
      </p:pic>
      <p:sp>
        <p:nvSpPr>
          <p:cNvPr id="99" name="矩形 8211"/>
          <p:cNvSpPr/>
          <p:nvPr/>
        </p:nvSpPr>
        <p:spPr>
          <a:xfrm>
            <a:off x="396720" y="33336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9231" descr=""/>
          <p:cNvPicPr/>
          <p:nvPr/>
        </p:nvPicPr>
        <p:blipFill>
          <a:blip r:embed="rId2"/>
          <a:stretch/>
        </p:blipFill>
        <p:spPr>
          <a:xfrm>
            <a:off x="2987640" y="2246400"/>
            <a:ext cx="2376360" cy="2190600"/>
          </a:xfrm>
          <a:prstGeom prst="rect">
            <a:avLst/>
          </a:prstGeom>
          <a:ln w="0">
            <a:noFill/>
          </a:ln>
        </p:spPr>
      </p:pic>
      <p:sp>
        <p:nvSpPr>
          <p:cNvPr id="101" name="矩形标注 12"/>
          <p:cNvSpPr/>
          <p:nvPr/>
        </p:nvSpPr>
        <p:spPr>
          <a:xfrm>
            <a:off x="179280" y="907920"/>
            <a:ext cx="3313080" cy="1079640"/>
          </a:xfrm>
          <a:prstGeom prst="wedgeRectCallout">
            <a:avLst>
              <a:gd name="adj1" fmla="val 46648"/>
              <a:gd name="adj2" fmla="val 8808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When do students eat breakfas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矩形标注 16"/>
          <p:cNvSpPr/>
          <p:nvPr/>
        </p:nvSpPr>
        <p:spPr>
          <a:xfrm>
            <a:off x="5148360" y="4437000"/>
            <a:ext cx="3384360" cy="1008000"/>
          </a:xfrm>
          <a:prstGeom prst="wedgeRectCallout">
            <a:avLst>
              <a:gd name="adj1" fmla="val -49671"/>
              <a:gd name="adj2" fmla="val -9393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When do students do homework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标注 21"/>
          <p:cNvSpPr/>
          <p:nvPr/>
        </p:nvSpPr>
        <p:spPr>
          <a:xfrm>
            <a:off x="108000" y="4869000"/>
            <a:ext cx="4932360" cy="1655640"/>
          </a:xfrm>
          <a:prstGeom prst="wedgeRectCallout">
            <a:avLst>
              <a:gd name="adj1" fmla="val 24893"/>
              <a:gd name="adj2" fmla="val -8087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They usually do homework at a quarter past three in the afterno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矩形标注 27"/>
          <p:cNvSpPr/>
          <p:nvPr/>
        </p:nvSpPr>
        <p:spPr>
          <a:xfrm>
            <a:off x="3959280" y="260280"/>
            <a:ext cx="4789440" cy="1582920"/>
          </a:xfrm>
          <a:prstGeom prst="wedgeRectCallout">
            <a:avLst>
              <a:gd name="adj1" fmla="val -33097"/>
              <a:gd name="adj2" fmla="val 8229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They usually eat breakfast at half past six in the morni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图片 9229" descr="S%SGY16GC44036%{UNB}V3M"/>
          <p:cNvPicPr/>
          <p:nvPr/>
        </p:nvPicPr>
        <p:blipFill>
          <a:blip r:embed="rId3"/>
          <a:stretch/>
        </p:blipFill>
        <p:spPr>
          <a:xfrm>
            <a:off x="900000" y="2828880"/>
            <a:ext cx="1871640" cy="12477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9230" descr="N6B2]4[P`K50N`8C5)_6@LR"/>
          <p:cNvPicPr/>
          <p:nvPr/>
        </p:nvPicPr>
        <p:blipFill>
          <a:blip r:embed="rId4"/>
          <a:stretch/>
        </p:blipFill>
        <p:spPr>
          <a:xfrm>
            <a:off x="6084720" y="2924280"/>
            <a:ext cx="1729080" cy="1141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椭圆 13335"/>
          <p:cNvSpPr/>
          <p:nvPr/>
        </p:nvSpPr>
        <p:spPr>
          <a:xfrm>
            <a:off x="250920" y="1247760"/>
            <a:ext cx="863640" cy="863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539640" y="2616120"/>
            <a:ext cx="8280360" cy="365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up  ___   6. do my homework  ____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un ____         7. clean my room 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t breakfast ___   8. eat dinner 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 to school __        9. take a walk 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 home  ____        10. go to bed 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187280" y="1176480"/>
            <a:ext cx="669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Listen and circle the activities you hear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图片 13323" descr="喇叭"/>
          <p:cNvPicPr/>
          <p:nvPr/>
        </p:nvPicPr>
        <p:blipFill>
          <a:blip r:embed="rId2"/>
          <a:stretch/>
        </p:blipFill>
        <p:spPr>
          <a:xfrm>
            <a:off x="7740720" y="14637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2482920" y="2687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:3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椭圆 13325"/>
          <p:cNvSpPr/>
          <p:nvPr/>
        </p:nvSpPr>
        <p:spPr>
          <a:xfrm>
            <a:off x="971640" y="2760840"/>
            <a:ext cx="1512720" cy="647640"/>
          </a:xfrm>
          <a:prstGeom prst="ellipse">
            <a:avLst/>
          </a:prstGeom>
          <a:noFill/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椭圆 13326"/>
          <p:cNvSpPr/>
          <p:nvPr/>
        </p:nvSpPr>
        <p:spPr>
          <a:xfrm>
            <a:off x="1042920" y="3481560"/>
            <a:ext cx="936720" cy="647640"/>
          </a:xfrm>
          <a:prstGeom prst="ellipse">
            <a:avLst/>
          </a:prstGeom>
          <a:noFill/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椭圆 13327"/>
          <p:cNvSpPr/>
          <p:nvPr/>
        </p:nvSpPr>
        <p:spPr>
          <a:xfrm>
            <a:off x="971640" y="4200480"/>
            <a:ext cx="2808360" cy="647640"/>
          </a:xfrm>
          <a:prstGeom prst="ellipse">
            <a:avLst/>
          </a:prstGeom>
          <a:noFill/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椭圆 13328"/>
          <p:cNvSpPr/>
          <p:nvPr/>
        </p:nvSpPr>
        <p:spPr>
          <a:xfrm>
            <a:off x="971640" y="4921200"/>
            <a:ext cx="2663640" cy="647640"/>
          </a:xfrm>
          <a:prstGeom prst="ellipse">
            <a:avLst/>
          </a:prstGeom>
          <a:noFill/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椭圆 13329"/>
          <p:cNvSpPr/>
          <p:nvPr/>
        </p:nvSpPr>
        <p:spPr>
          <a:xfrm>
            <a:off x="971640" y="5711760"/>
            <a:ext cx="1944720" cy="576360"/>
          </a:xfrm>
          <a:prstGeom prst="ellipse">
            <a:avLst/>
          </a:prstGeom>
          <a:noFill/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椭圆 13330"/>
          <p:cNvSpPr/>
          <p:nvPr/>
        </p:nvSpPr>
        <p:spPr>
          <a:xfrm>
            <a:off x="3924360" y="2832120"/>
            <a:ext cx="3743280" cy="647640"/>
          </a:xfrm>
          <a:prstGeom prst="ellipse">
            <a:avLst/>
          </a:prstGeom>
          <a:noFill/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椭圆 13331"/>
          <p:cNvSpPr/>
          <p:nvPr/>
        </p:nvSpPr>
        <p:spPr>
          <a:xfrm>
            <a:off x="5148360" y="4200480"/>
            <a:ext cx="2303280" cy="647640"/>
          </a:xfrm>
          <a:prstGeom prst="ellipse">
            <a:avLst/>
          </a:prstGeom>
          <a:noFill/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椭圆 13332"/>
          <p:cNvSpPr/>
          <p:nvPr/>
        </p:nvSpPr>
        <p:spPr>
          <a:xfrm>
            <a:off x="5435640" y="5640480"/>
            <a:ext cx="1944720" cy="647640"/>
          </a:xfrm>
          <a:prstGeom prst="ellipse">
            <a:avLst/>
          </a:prstGeom>
          <a:noFill/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13333"/>
          <p:cNvSpPr txBox="1"/>
          <p:nvPr/>
        </p:nvSpPr>
        <p:spPr>
          <a:xfrm>
            <a:off x="3059280" y="412920"/>
            <a:ext cx="316836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99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istening</a:t>
            </a:r>
            <a:endParaRPr b="1" lang="en-US" sz="36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9400ed"/>
                  </a:gs>
                  <a:gs pos="100000">
                    <a:srgbClr val="99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矩形 13334"/>
          <p:cNvSpPr/>
          <p:nvPr/>
        </p:nvSpPr>
        <p:spPr>
          <a:xfrm>
            <a:off x="323280" y="1247760"/>
            <a:ext cx="6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椭圆 14356"/>
          <p:cNvSpPr/>
          <p:nvPr/>
        </p:nvSpPr>
        <p:spPr>
          <a:xfrm>
            <a:off x="250920" y="581040"/>
            <a:ext cx="792000" cy="79200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179280" y="2349360"/>
            <a:ext cx="8785440" cy="365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up           6. do my home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un               7. clean my ro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t breakfast           8. eat dinn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go to school               9. take a wal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go home                  10. go to b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42560" y="476280"/>
            <a:ext cx="7488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Listen again. Write the time nex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o the activities you circled in 1c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124000" y="25336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5:3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图片 14347" descr="喇叭"/>
          <p:cNvPicPr/>
          <p:nvPr/>
        </p:nvPicPr>
        <p:blipFill>
          <a:blip r:embed="rId2"/>
          <a:stretch/>
        </p:blipFill>
        <p:spPr>
          <a:xfrm>
            <a:off x="8280360" y="126828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476360" y="3284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: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346560" y="39402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: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132000" y="46594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:4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482920" y="5380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:15 p.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93080" y="2492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:30 p.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020000" y="3940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:15 p.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7020000" y="5380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9:00 p.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矩形 14355"/>
          <p:cNvSpPr/>
          <p:nvPr/>
        </p:nvSpPr>
        <p:spPr>
          <a:xfrm>
            <a:off x="324000" y="60480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5369" descr=""/>
          <p:cNvPicPr/>
          <p:nvPr/>
        </p:nvPicPr>
        <p:blipFill>
          <a:blip r:embed="rId2"/>
          <a:stretch/>
        </p:blipFill>
        <p:spPr>
          <a:xfrm>
            <a:off x="3995640" y="4121280"/>
            <a:ext cx="1944720" cy="1792080"/>
          </a:xfrm>
          <a:prstGeom prst="rect">
            <a:avLst/>
          </a:prstGeom>
          <a:ln w="0">
            <a:noFill/>
          </a:ln>
        </p:spPr>
      </p:pic>
      <p:sp>
        <p:nvSpPr>
          <p:cNvPr id="136" name="椭圆 15371"/>
          <p:cNvSpPr/>
          <p:nvPr/>
        </p:nvSpPr>
        <p:spPr>
          <a:xfrm>
            <a:off x="971640" y="765000"/>
            <a:ext cx="865080" cy="7923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矩形标注 5"/>
          <p:cNvSpPr/>
          <p:nvPr/>
        </p:nvSpPr>
        <p:spPr>
          <a:xfrm>
            <a:off x="324000" y="2276640"/>
            <a:ext cx="3743280" cy="1150920"/>
          </a:xfrm>
          <a:prstGeom prst="wedgeRectCallout">
            <a:avLst>
              <a:gd name="adj1" fmla="val 43300"/>
              <a:gd name="adj2" fmla="val 9731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When does Tom usually get up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矩形标注 6"/>
          <p:cNvSpPr/>
          <p:nvPr/>
        </p:nvSpPr>
        <p:spPr>
          <a:xfrm>
            <a:off x="4932360" y="2781360"/>
            <a:ext cx="3960720" cy="1152360"/>
          </a:xfrm>
          <a:prstGeom prst="wedgeRectCallout">
            <a:avLst>
              <a:gd name="adj1" fmla="val -29680"/>
              <a:gd name="adj2" fmla="val 8085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He usually gets up at half past fi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2232000" y="549360"/>
            <a:ext cx="6085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Ask and answer questions about Tom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矩形标注 9"/>
          <p:cNvSpPr/>
          <p:nvPr/>
        </p:nvSpPr>
        <p:spPr>
          <a:xfrm>
            <a:off x="216000" y="4292640"/>
            <a:ext cx="3276360" cy="1150920"/>
          </a:xfrm>
          <a:prstGeom prst="wedgeRectCallout">
            <a:avLst>
              <a:gd name="adj1" fmla="val 66324"/>
              <a:gd name="adj2" fmla="val 2658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What time does Tom usually …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标注 10"/>
          <p:cNvSpPr/>
          <p:nvPr/>
        </p:nvSpPr>
        <p:spPr>
          <a:xfrm>
            <a:off x="5940360" y="5445000"/>
            <a:ext cx="2916360" cy="720720"/>
          </a:xfrm>
          <a:prstGeom prst="wedgeRectCallout">
            <a:avLst>
              <a:gd name="adj1" fmla="val -52231"/>
              <a:gd name="adj2" fmla="val -10550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He usually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矩形 15370"/>
          <p:cNvSpPr/>
          <p:nvPr/>
        </p:nvSpPr>
        <p:spPr>
          <a:xfrm>
            <a:off x="1042920" y="765000"/>
            <a:ext cx="67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2:59:25Z</dcterms:created>
  <dc:creator/>
  <dc:description/>
  <dc:language>en-US</dc:language>
  <cp:lastModifiedBy>Administrator</cp:lastModifiedBy>
  <dcterms:modified xsi:type="dcterms:W3CDTF">2018-03-09T13:50:17Z</dcterms:modified>
  <cp:revision>4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